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F6D5-12B3-4EEA-AB81-74F1BC9071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B14A-3E5F-4E67-A336-68D58742B4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634-4EED-4DE5-9AF8-29BE2265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48B-8786-4A17-B669-67837BF7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38F-B955-4BDB-AD79-D2DC9ACA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618-13B9-4899-A63F-EA4036C8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191-56B2-46DE-8A2F-98F1C31A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556-5472-4F8D-A30D-BAE5AADE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15E-6BF7-460B-A192-25CAC778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8BA-413F-43AD-8A11-AE291C96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D26-5DD6-45C3-8D2E-93DCCEE1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6B8-B9B7-4947-9BFE-F5FFE6E2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FFF-660B-4545-B916-DE19B92F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55A-261E-4A7C-BE3C-F2B6501C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66D7-CC80-44DC-A4C3-7B341EADB9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 Were They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enise Lever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v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clin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v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a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eat with deep res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habit of indulging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d creamy-white substance taken from elephant or walrus tusks used to make ornaments and jewell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d green stone used for ornaments and jewelle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20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epic po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distinguis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llumi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padd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ng narrative poem traditionally recounting heroic explo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e any difference betwe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t, illumin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hort for ‘paddy fields’ – flooded  farmland where rice is cultiv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ree 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uxta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27280" y="160020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etry that does not rhyme or have a regular structure or rhythm; also known by the French term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vers lib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acing close together for contrasting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od created by a manner of expression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484280"/>
            <a:ext cx="24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nomatopoe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32000" y="155736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petition of the same consonant sound at the beginning of words in close proximity to each other for emphasis or other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hrase used to make a description more vivid by using ‘like’ or ‘as’ to compare two th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ds that sound like their mea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48:17Z</dcterms:modified>
  <cp:revision>35</cp:revision>
  <dc:subject/>
  <dc:title>La Belle Dame Sans Merci</dc:title>
</cp:coreProperties>
</file>